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AD1E-7E17-49EB-843B-51B5CF7A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4F48-D58F-4592-8D89-D866C6CA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1E93-EA97-423E-91AF-5441693A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1520-CEE6-48D8-905F-6F6C763FF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34B6-729C-44D0-9933-B0DC366F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A3BC-EBF1-42FD-9370-40DB7C36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34A7-A5F3-4E7D-AD4C-8C7D9143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0EF0-FFD6-4C9C-9812-4E4AD81E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5A62-82A3-48D7-B7B3-227096CF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3E67-BA52-4CBA-BFB1-CD5C4E0C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2025-28C0-4F66-B72B-A19F0295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BE6B-8733-436F-9A89-07EBE2A0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1B48-06A3-4DC2-9BD1-3153486E0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675240" y="0"/>
            <a:ext cx="54687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3657600" cy="10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Simplified Arabic"/>
              </a:rPr>
              <a:t> </a:t>
            </a: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يا خبزَ الحياة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وقـوتَ الأرواح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وعربونَ النعيـ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أنتَ ابنُ البشـر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أنتَ ابنُ الإلهْ والإلهُ  الرحيـمْ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28600"/>
            <a:ext cx="3048120" cy="88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ملائكـة قيامْ بالخجل والوجل من بَهاكَ العظيم ونحنُ المساكين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	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كيف نَقبلُك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بفمنـا ذا  الأثي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35268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3276720" cy="88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في العَشا السري فاضَ بحرُ الجود وكان هو الجواد   وهَبَنـا ذاتَه خُبزاً وخَمراً </a:t>
            </a: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وهوَ أّشرفُ زا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762120"/>
            <a:ext cx="4191120" cy="73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ُقبـلُ  حسـاً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يفيضُ نفسـاً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أفضـل إمدا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ا لسـرٍ عجيـب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سرِّ اللّهِ الرهيب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يُحقُ أن يُعبـ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609480"/>
            <a:ext cx="3673440" cy="9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سرُّ الأسـرار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برُّ الأبـرار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قُدسُ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تقدي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عينُ الخيـرات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مَبـدا وغاية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	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كلُّ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فضلٍ نفي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33920" y="-271440"/>
            <a:ext cx="10744200" cy="8058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228600"/>
            <a:ext cx="3429000" cy="11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يُها التائبون هلُّموا بإحترام واقتبلوا الإِلـ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هو الذي يُعطى هو الذي يُعطِي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حمةً وحيـاة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04920"/>
            <a:ext cx="4267080" cy="97884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إلهـي رجائي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	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نَعيمي نِعمَتـي  لَذَتي المبتغــا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أنعم  لِنَقبَلـــك بالحبِ والشوق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عربونَ  النجـاة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736800" y="0"/>
            <a:ext cx="54072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228600"/>
            <a:ext cx="3505320" cy="83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أنا لستُ أهلاً بل أنا تائــب بل أنا مأمــو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يا خبـزَ السمـا كُن لِيَ قوتــاً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الى دهرِ الدهور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07:08:41Z</dcterms:created>
  <dc:creator>SUZANNE.MD</dc:creator>
  <dc:description/>
  <dc:language>en-US</dc:language>
  <cp:lastModifiedBy>HANI SAFI</cp:lastModifiedBy>
  <dcterms:modified xsi:type="dcterms:W3CDTF">2003-04-16T13:48:33Z</dcterms:modified>
  <cp:revision>3</cp:revision>
  <dc:subject/>
  <dc:title>PowerPoint Presentation</dc:title>
</cp:coreProperties>
</file>